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3BD-406B-46E3-83C7-CF846DCC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55F-244E-43F6-8137-6B715E98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1D9-8E3B-45CC-91CE-9A4EDEA8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3073-796B-4358-8637-A9A3B544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87B2-B74B-4268-92CF-92C74361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61A8-0C22-466A-8C14-538B8ADE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F721-E953-4A66-BD63-7DF91B69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70E2-EA61-4332-B634-D3AC462C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FD8C-4E05-4AFA-B86A-BEDBF70C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0D57-1124-415D-BDA3-D18CCDC4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2FB4-1D4A-4543-A37E-1F9664DA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A6D-D931-4A13-9DD7-41D3B7A2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6134-2FE5-44E0-B156-F440EEE9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3A3F-3EDE-4C0C-B328-45D238CA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E6F-C613-426D-B5EA-9345EDED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08AD-A761-489B-9AF4-C38F4E79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A6FD-D202-4A89-BB90-36305DA0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3EB-20F6-4AD1-8E64-E2BB9AC1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C7E-2898-4B2D-8838-B614CFC5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018-A4CD-4ABE-9309-60007CE7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581-A563-4DAB-83BB-E5BD40AC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73F-F418-46AB-B8D4-CCEB4A79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AAE-04D9-4EB5-8C08-4FE5C490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7F7-3BBE-4B54-BFDA-381D4D4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3D5F-EDBA-44EF-9CE5-71BF21DFD1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B998-ECFF-4325-94F3-3065D4BA4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6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хабилитација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уматских обољењ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BUS BECHTER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droma Marie-Strumpell-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бољи назив, који је данас прихваћен, је Morbus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иви као "анкилозирајући спондилитис" и слични, иако су прихваћени имају и својих мањкавости, јер у себи садрже тумачење да је анкилоза кичменог стуба неизбежна последица. Такодје, овај назив искључује обољење периферних зглобова, а сам по себи јатрогенизује болес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апеутске вежбе се спроводе у циљу спречавања развоја контрактура (коксофеморални зглобови), јачања паравертебралне мускулатуре и очување респираторног капацитета. После овакве активности, потребан је довољно дуг одмор. Одмор треба да износи најмање 10-12 сати у току 24 сата. Но, најбоље је одмор одредјивати индивидуално (равнотежа измедју одмора и физичке активности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ј треба да је тв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, а пацијент мора лежати на ледјима. Уколико не може због болова да заузме ледјни положај, онда је дозвољен и положај лежања на трбуху. Забрањено је лежање на страни, односно лежање на б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ржавање правилног држања и покретљивo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мeнo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б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фази ремисије се може слободније радити у циљу истих захтева који су горе наведен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ачање паравертебралне мускулатур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дисајне функци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ечавање контрактура у коксофеморал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глобови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мор у току дан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ме бити краћи од 8 - 10 са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ред кинезитерапије, примењујемо КТД, хидротерапију, подводне масаже, ултразвук, интерферентне струје, ласер терапију и магнетотерапију. Ултразвук се користи у дозама већим од 1 W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и то дуж кичменог стуба и у пределу с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илиачних зглоб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ебно би истакли да је кинезитерапија стожер физикалне терапи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век усправно стајати, ходати или седе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д седења седиште треба да је тврд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ње је увек без јастука, а лежај треба да је твр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бегавати свако савијање напред и подизање терета у савијеном положај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 мора бити искључиво континуиран процес (вежбати сваки дан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 ортопедских мера најчешће се користи употреба растеретних мидера и појасева у циљу корекције кифозе. Понекад се примењују и ортопедске мере у лечењу анкилозантног спондилитиса. Од тих мера најчешћа је употреба појасева - мидера и то растеретних и корективних у циљу корекције кифоз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 код дегенеративног реуматиз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65502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ологија евалуациј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видуални присту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кализација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ункционална ана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утност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Акут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640" y="198108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зиционир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иотерап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тичке вежб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тске физикалне процед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ЕН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Д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асер (аналгетска фреквенциј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Хронич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6000" y="1981080"/>
            <a:ext cx="67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рм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д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лект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инези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тивне вежбе у циљу прогресивног јачања мускулату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већање обима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екција постуралних поремећа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мишићних атрофиј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контрактура зглобов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остеопорозе и деструкције костију због инактивите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мператив физикалне терапије је активни покрет. Но, у акутној фази намеће се супротност у виду мировања и позиционирања захваћених зглобова. Медјутим, и овде се може применити активни покрет кроз вид статичких контракција. По смиривању акутног процеса прелази се на динамичке контракције као једини вид природног активног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аза ремис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елоидна паковањ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термотерапија (топла и хладна диферентна зон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ласе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мпулсно магнетно пољ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електротерапија (стабилна галванизација, КТД, интерферентне струје, електростимулације и др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имена радне терапије је битан елемент функционалне терапије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купационе терапи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ункционални капацитет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2400" cy="4289400"/>
        </p:xfrm>
        <a:graphic>
          <a:graphicData uri="http://schemas.openxmlformats.org/drawingml/2006/table">
            <a:tbl>
              <a:tblPr/>
              <a:tblGrid>
                <a:gridCol w="1325520"/>
                <a:gridCol w="6446880"/>
              </a:tblGrid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ре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нкционално стањ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, уз потпуно одржану радну способно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ржана функционална способност за нормалну свакодневну активност (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), упркос ограниченој покрњетљивости једног или више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 који значајно смањује радну способност. Није потребна туђа нега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а функционална неспособност, неопходна стална туђа нега и помо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стадијум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ировање у растеретном положају уз одржавање функционалног положаја зглоб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ио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инезиетрапија (статичке контракције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ш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 болесника (упознавање са процесом болести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 болес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анатомских оштећења, контрактура и деформитет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зиранa кинези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вежбе са помагaлим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топле купк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лтразвук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асеро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купuнктура (иако још увек није јасaн nачин деловањa, код појединiх случајева долази до побoљшањa)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арaфинска и пелоидна паковањa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едукација болесник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након хируршких интервенција, синовектомије, алоартропластике, артродезе и др.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, комбинованa са хидротерапиј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мотерапија илi криотерапија (зави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д степeна акутности обoљењ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асер терап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V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тешких деформациј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идрокинези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средстава за самозбрињавањ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0:41:46Z</dcterms:created>
  <dc:creator>WIN98SE</dc:creator>
  <dc:description/>
  <dc:language>en-US</dc:language>
  <cp:lastModifiedBy>Kaca</cp:lastModifiedBy>
  <dcterms:modified xsi:type="dcterms:W3CDTF">2022-08-20T13:34:47Z</dcterms:modified>
  <cp:revision>10</cp:revision>
  <dc:subject/>
  <dc:title>Rehabilitacija reumatskih oboljenja</dc:title>
</cp:coreProperties>
</file>